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1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21.wmf" ContentType="image/x-wmf"/>
  <Override PartName="/ppt/media/image64.png" ContentType="image/png"/>
  <Override PartName="/ppt/media/image26.png" ContentType="image/png"/>
  <Override PartName="/ppt/media/image20.wmf" ContentType="image/x-wmf"/>
  <Override PartName="/ppt/media/image63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79D-1678-4984-BC63-19D63E6C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6CD-3195-4BCC-B42F-4E36AC3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656-1D97-4A80-A837-B7B0A8C2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340-9A21-402C-8CCF-F5CAE8D5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44E-6247-47CE-BE72-07704471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4E8-EB5D-4563-8693-7F65991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171-D1EE-4336-BD47-635A2E85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C69-E810-4BA9-B045-40F58AB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45A-6EA9-48E7-97C9-B2B47490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CD5-3678-449A-8CF1-9EE8B87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0AE-8ACA-4FE3-9567-5FB6A49F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F1B-1A37-42B6-940A-A1CA3A7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1542-E812-4154-A2BD-F8171620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76320" y="380880"/>
          <a:ext cx="282240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28224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6160" y="0"/>
            <a:ext cx="550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UPERPOSITION APPLIED TO OP-AM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280" y="441360"/>
            <a:ext cx="7716600" cy="1762200"/>
            <a:chOff x="44280" y="441360"/>
            <a:chExt cx="7716600" cy="1762200"/>
          </a:xfrm>
        </p:grpSpPr>
        <p:sp>
          <p:nvSpPr>
            <p:cNvPr id="397" name=""/>
            <p:cNvSpPr/>
            <p:nvPr/>
          </p:nvSpPr>
          <p:spPr>
            <a:xfrm>
              <a:off x="3197160" y="441360"/>
              <a:ext cx="456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 SOURCES. WE ANALYZE ONE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3440" y="1425600"/>
              <a:ext cx="876240" cy="723960"/>
            </a:xfrm>
            <a:custGeom>
              <a:avLst/>
              <a:gdLst/>
              <a:ahLst/>
              <a:rect l="l" t="t" r="r" b="b"/>
              <a:pathLst>
                <a:path w="552" h="456">
                  <a:moveTo>
                    <a:pt x="490" y="378"/>
                  </a:moveTo>
                  <a:cubicBezTo>
                    <a:pt x="552" y="283"/>
                    <a:pt x="497" y="187"/>
                    <a:pt x="443" y="104"/>
                  </a:cubicBezTo>
                  <a:cubicBezTo>
                    <a:pt x="426" y="78"/>
                    <a:pt x="406" y="35"/>
                    <a:pt x="377" y="19"/>
                  </a:cubicBezTo>
                  <a:cubicBezTo>
                    <a:pt x="357" y="7"/>
                    <a:pt x="332" y="7"/>
                    <a:pt x="310" y="0"/>
                  </a:cubicBezTo>
                  <a:cubicBezTo>
                    <a:pt x="206" y="11"/>
                    <a:pt x="251" y="0"/>
                    <a:pt x="169" y="28"/>
                  </a:cubicBezTo>
                  <a:cubicBezTo>
                    <a:pt x="150" y="34"/>
                    <a:pt x="112" y="47"/>
                    <a:pt x="112" y="47"/>
                  </a:cubicBezTo>
                  <a:cubicBezTo>
                    <a:pt x="93" y="60"/>
                    <a:pt x="67" y="66"/>
                    <a:pt x="55" y="85"/>
                  </a:cubicBezTo>
                  <a:cubicBezTo>
                    <a:pt x="43" y="104"/>
                    <a:pt x="18" y="142"/>
                    <a:pt x="18" y="142"/>
                  </a:cubicBezTo>
                  <a:cubicBezTo>
                    <a:pt x="0" y="210"/>
                    <a:pt x="5" y="315"/>
                    <a:pt x="46" y="378"/>
                  </a:cubicBezTo>
                  <a:cubicBezTo>
                    <a:pt x="65" y="407"/>
                    <a:pt x="99" y="425"/>
                    <a:pt x="131" y="434"/>
                  </a:cubicBezTo>
                  <a:cubicBezTo>
                    <a:pt x="156" y="441"/>
                    <a:pt x="207" y="453"/>
                    <a:pt x="207" y="453"/>
                  </a:cubicBezTo>
                  <a:cubicBezTo>
                    <a:pt x="334" y="447"/>
                    <a:pt x="382" y="456"/>
                    <a:pt x="480" y="425"/>
                  </a:cubicBezTo>
                  <a:cubicBezTo>
                    <a:pt x="492" y="391"/>
                    <a:pt x="490" y="407"/>
                    <a:pt x="490" y="3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" y="1409760"/>
              <a:ext cx="609840" cy="7938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350" y="368"/>
                  </a:moveTo>
                  <a:cubicBezTo>
                    <a:pt x="375" y="290"/>
                    <a:pt x="373" y="215"/>
                    <a:pt x="378" y="132"/>
                  </a:cubicBezTo>
                  <a:cubicBezTo>
                    <a:pt x="375" y="113"/>
                    <a:pt x="373" y="94"/>
                    <a:pt x="369" y="75"/>
                  </a:cubicBezTo>
                  <a:cubicBezTo>
                    <a:pt x="353" y="3"/>
                    <a:pt x="287" y="7"/>
                    <a:pt x="227" y="0"/>
                  </a:cubicBezTo>
                  <a:cubicBezTo>
                    <a:pt x="214" y="2"/>
                    <a:pt x="147" y="4"/>
                    <a:pt x="123" y="18"/>
                  </a:cubicBezTo>
                  <a:cubicBezTo>
                    <a:pt x="103" y="29"/>
                    <a:pt x="66" y="56"/>
                    <a:pt x="66" y="56"/>
                  </a:cubicBezTo>
                  <a:cubicBezTo>
                    <a:pt x="33" y="107"/>
                    <a:pt x="20" y="142"/>
                    <a:pt x="0" y="198"/>
                  </a:cubicBezTo>
                  <a:cubicBezTo>
                    <a:pt x="5" y="262"/>
                    <a:pt x="3" y="391"/>
                    <a:pt x="66" y="434"/>
                  </a:cubicBezTo>
                  <a:cubicBezTo>
                    <a:pt x="104" y="489"/>
                    <a:pt x="162" y="493"/>
                    <a:pt x="227" y="500"/>
                  </a:cubicBezTo>
                  <a:cubicBezTo>
                    <a:pt x="255" y="497"/>
                    <a:pt x="285" y="500"/>
                    <a:pt x="312" y="491"/>
                  </a:cubicBezTo>
                  <a:cubicBezTo>
                    <a:pt x="334" y="484"/>
                    <a:pt x="369" y="453"/>
                    <a:pt x="369" y="453"/>
                  </a:cubicBezTo>
                  <a:cubicBezTo>
                    <a:pt x="384" y="405"/>
                    <a:pt x="382" y="434"/>
                    <a:pt x="350" y="36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6320" y="2422440"/>
            <a:ext cx="5941800" cy="2414520"/>
            <a:chOff x="76320" y="2422440"/>
            <a:chExt cx="5941800" cy="2414520"/>
          </a:xfrm>
        </p:grpSpPr>
        <p:graphicFrame>
          <p:nvGraphicFramePr>
            <p:cNvPr id="401" name=""/>
            <p:cNvGraphicFramePr/>
            <p:nvPr/>
          </p:nvGraphicFramePr>
          <p:xfrm>
            <a:off x="76320" y="2612880"/>
            <a:ext cx="3276360" cy="222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612880"/>
                      <a:ext cx="32763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554280" y="2422440"/>
              <a:ext cx="2463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inverter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6172200" y="2362320"/>
          <a:ext cx="14479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14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380880" y="4648320"/>
            <a:ext cx="6172920" cy="1923840"/>
            <a:chOff x="380880" y="4648320"/>
            <a:chExt cx="6172920" cy="1923840"/>
          </a:xfrm>
        </p:grpSpPr>
        <p:graphicFrame>
          <p:nvGraphicFramePr>
            <p:cNvPr id="407" name=""/>
            <p:cNvGraphicFramePr/>
            <p:nvPr/>
          </p:nvGraphicFramePr>
          <p:xfrm>
            <a:off x="380880" y="4648320"/>
            <a:ext cx="2879640" cy="192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648320"/>
                      <a:ext cx="2879640" cy="19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3418920" y="4708440"/>
              <a:ext cx="312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040" y="5334120"/>
              <a:ext cx="2975760" cy="5806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redrawing for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6629400" y="4772160"/>
          <a:ext cx="1905120" cy="82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772160"/>
                    <a:ext cx="1905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3843000" y="3336840"/>
            <a:ext cx="4005720" cy="1158840"/>
            <a:chOff x="3843000" y="3336840"/>
            <a:chExt cx="4005720" cy="1158840"/>
          </a:xfrm>
        </p:grpSpPr>
        <p:sp>
          <p:nvSpPr>
            <p:cNvPr id="414" name=""/>
            <p:cNvSpPr/>
            <p:nvPr/>
          </p:nvSpPr>
          <p:spPr>
            <a:xfrm>
              <a:off x="3843000" y="33368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86200" y="3692520"/>
            <a:ext cx="3962520" cy="80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86200" y="3692520"/>
                      <a:ext cx="3962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425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7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39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42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45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48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51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63" name="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4-08-18T01:37:25Z</dcterms:modified>
  <cp:revision>24</cp:revision>
  <dc:subject/>
  <dc:title>No Slide Title</dc:title>
</cp:coreProperties>
</file>